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Eleven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 and Ge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hting Back: The Rise of Femi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Wave—Early 1900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Wave Began 1960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Wave Emerging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Inequality in the U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Inequality in Health C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Inequality in 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Inequality in the U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Inequality in Everyday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aluation of the Femin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and Conver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Inequality in the U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ay G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Inequality in the Workp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lass Esca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Inequality in the Workp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ay Ga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acking the Glass Cei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equal Access to Power, Prestige, and Property on the Basis of Sex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Gender Stratific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and Control of Wor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xual Harassment and Wo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Inequality in the Workp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olence Against Wo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cible R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(Acquaintance) R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olence in the 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men and Criminal Justic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and Viol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minism and Gendered Viol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ic Interaction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ociation of Strength, Virility, and Viol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lict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n Losing Power, Reassert Through Viol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and Viol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men Majority in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men Underrepresented in Gover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men Underrepresented in Law and Business Care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Face of Poli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rriers Coming 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andoning Stereo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Conscious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impsing the Future - With H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x - Biological Characte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male and M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and Secondary Sexual Characte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sues of Sex and G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- Social Characte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culinity and Femini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priate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sues of Sex and G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minant Position in Soc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Factors Primary, Not Bio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Biological Should Be Less Var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Differences In Behavior - Biology or Cultu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ing the Door to B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vs. Nur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edical Acci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etnam Veteran Stu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Differences In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ology or Cultu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Females became a Minority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rigins of Patriarc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x Typing of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and Prestige of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and Inequality in Global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Areas of Global Discr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Gap in 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Gap in Poli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Gap in Pa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olence Against Wo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and Inequality in Global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2F555-4887-42B1-969C-C9BB743D44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3042C-E2F5-40E1-904A-239F07A6E5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9693B-3E78-435F-B1DE-B9CDEC2262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9783A-58B8-4A5A-B56D-A88B8279F7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B68749-306E-4B2D-B1E8-678F72FFD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2E5E9F-AEB1-4DEC-871A-7130BF66F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9B96BA-7E0B-46AE-8C6E-1F26E95EF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6CEC5C-E2E3-429B-B6CB-F5B44AF0D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82F5D2-1C06-42B0-B29B-9D20DC6A4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40991F-6E16-4AA5-BB4A-31C18B2CC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9E814F-2F46-4A4B-9682-0916B2017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FE19D-575E-4457-B513-87F8CA11A1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59629B-095E-48CB-AF22-6A9C2A9FC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D7D300-23AC-42F2-B835-4C5C7BC15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06E513-50B4-46F6-95AC-EC3B19A24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EDF269-86DD-4160-92B5-E4A6F9444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9B3C75-BCAC-4825-83EE-EF1E4F2AF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58D1C-B258-48F0-948A-C569D923DF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C51E8-AD68-4914-8689-8A1AF91843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51291-D22C-4608-A3C1-A278EF46DB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E7A30-C7E7-4FD2-AC00-48EA3E7B5F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9EF7B-C6E2-4CAB-A87B-056C771DB9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503E9-1F9D-421D-B48F-0067E45356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F9935-50EE-441E-ADB0-CB142342F7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-3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E7C05-C4F7-45FE-B13A-633FCD77A345}" type="slidenum"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Rectangle 39"/>
          <p:cNvSpPr/>
          <p:nvPr/>
        </p:nvSpPr>
        <p:spPr>
          <a:xfrm>
            <a:off x="2895480" y="0"/>
            <a:ext cx="6248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Times New Roman"/>
              </a:rPr>
              <a:t>Chapter 11: Sex and Gender</a:t>
            </a:r>
            <a:endParaRPr b="1" lang="en-US" sz="1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1085760" cy="6854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519EB-C24C-42AB-A2CE-7C97B1D1D7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"/>
          <p:cNvSpPr/>
          <p:nvPr/>
        </p:nvSpPr>
        <p:spPr>
          <a:xfrm>
            <a:off x="3124080" y="3657600"/>
            <a:ext cx="50292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Chapter Eleven: 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Sex and Gender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066320" y="182844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435600" indent="0">
              <a:lnSpc>
                <a:spcPct val="2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ghting Back: The Rise of Femin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5600" indent="-435600">
              <a:lnSpc>
                <a:spcPct val="2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rst Wave—Early 1900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5600" indent="-435600">
              <a:lnSpc>
                <a:spcPct val="2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Wave Began 1960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5600" indent="-435600">
              <a:lnSpc>
                <a:spcPct val="2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Wave Emerging Now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1066680" y="349200"/>
            <a:ext cx="5715000" cy="1708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ender Inequality in the U.S.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4" dur="1" fill="hold"/>
                                  <p:tgtEl>
                                    <p:spTgt spid="11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8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der Inequality in Health Ca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8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der Inequality in Educ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1066680" y="425520"/>
            <a:ext cx="5943600" cy="163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ender Inequality in the U.S.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8" dur="1" fill="hold"/>
                                  <p:tgtEl>
                                    <p:spTgt spid="11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18" name="Picture 3" descr="11-02"/>
          <p:cNvPicPr/>
          <p:nvPr/>
        </p:nvPicPr>
        <p:blipFill>
          <a:blip r:embed="rId1"/>
          <a:stretch/>
        </p:blipFill>
        <p:spPr>
          <a:xfrm>
            <a:off x="533520" y="685800"/>
            <a:ext cx="8076960" cy="55641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20" name="Picture 3" descr="11-03"/>
          <p:cNvPicPr/>
          <p:nvPr/>
        </p:nvPicPr>
        <p:blipFill>
          <a:blip r:embed="rId1"/>
          <a:stretch/>
        </p:blipFill>
        <p:spPr>
          <a:xfrm>
            <a:off x="914400" y="533520"/>
            <a:ext cx="7391520" cy="5827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22" name="Picture 4" descr="11-04"/>
          <p:cNvPicPr/>
          <p:nvPr/>
        </p:nvPicPr>
        <p:blipFill>
          <a:blip r:embed="rId1"/>
          <a:stretch/>
        </p:blipFill>
        <p:spPr>
          <a:xfrm>
            <a:off x="533520" y="380880"/>
            <a:ext cx="7696080" cy="60883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2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der Inequality in Everyday Lif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evaluation of the Feminin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der and Convers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1066680" y="654120"/>
            <a:ext cx="5715000" cy="1403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ender Inequality in the U.S.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8" dur="1" fill="hold"/>
                                  <p:tgtEl>
                                    <p:spTgt spid="12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4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Pay Gap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1066680" y="609480"/>
            <a:ext cx="5791320" cy="144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ender Inequality in the Workplac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37" dur="1" fill="hold"/>
                                  <p:tgtEl>
                                    <p:spTgt spid="12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30" name="Picture 3" descr="11-07"/>
          <p:cNvPicPr/>
          <p:nvPr/>
        </p:nvPicPr>
        <p:blipFill>
          <a:blip r:embed="rId1"/>
          <a:stretch/>
        </p:blipFill>
        <p:spPr>
          <a:xfrm>
            <a:off x="380880" y="990720"/>
            <a:ext cx="8305920" cy="4846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0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32" name="Picture 3" descr="11-08"/>
          <p:cNvPicPr/>
          <p:nvPr/>
        </p:nvPicPr>
        <p:blipFill>
          <a:blip r:embed="rId1"/>
          <a:stretch/>
        </p:blipFill>
        <p:spPr>
          <a:xfrm>
            <a:off x="1447920" y="380880"/>
            <a:ext cx="6248160" cy="6208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2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0">
              <a:lnSpc>
                <a:spcPct val="2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4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Glass Escalato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1066680" y="609480"/>
            <a:ext cx="5791320" cy="144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ender Inequality in the Workplac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1066680" y="2057400"/>
            <a:ext cx="80773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3960" indent="-453960">
              <a:lnSpc>
                <a:spcPct val="240000"/>
              </a:lnSpc>
              <a:spcBef>
                <a:spcPts val="799"/>
              </a:spcBef>
              <a:buClr>
                <a:srgbClr val="b2b2b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The Pay Gap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4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racking the Glass Ceiling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61" dur="1" fill="hold"/>
                                  <p:tgtEl>
                                    <p:spTgt spid="13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066320" y="251424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Unequal Access to Power, Prestige, and Property on the Basis of Sex.”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066680" y="806400"/>
            <a:ext cx="792504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What is Gender Stratification?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" dur="1" fill="hold"/>
                                  <p:tgtEl>
                                    <p:spTgt spid="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3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der and Control of Work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3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xual Harassment and Wors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1066680" y="730080"/>
            <a:ext cx="6019920" cy="132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ender Inequality in the Workplac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75" dur="1" fill="hold"/>
                                  <p:tgtEl>
                                    <p:spTgt spid="13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Violence Against Wome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Forcible Rap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Date (Acquaintance) Rap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Murder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Violence in the Hom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Women and Criminal Justice System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1066680" y="1035000"/>
            <a:ext cx="807732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ender and Violenc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9" dur="1" fill="hold"/>
                                  <p:tgtEl>
                                    <p:spTgt spid="14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44" name="Picture 3" descr="11-09"/>
          <p:cNvPicPr/>
          <p:nvPr/>
        </p:nvPicPr>
        <p:blipFill>
          <a:blip r:embed="rId1"/>
          <a:stretch/>
        </p:blipFill>
        <p:spPr>
          <a:xfrm>
            <a:off x="838080" y="457200"/>
            <a:ext cx="7086600" cy="5992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0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430920" indent="-43092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eminism and Gendered Violen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11080" indent="-271080">
              <a:lnSpc>
                <a:spcPct val="16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Symbolic Interactionist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2" marL="1136880" indent="-217080">
              <a:lnSpc>
                <a:spcPct val="160000"/>
              </a:lnSpc>
              <a:spcBef>
                <a:spcPts val="601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6300"/>
                </a:solidFill>
                <a:latin typeface="Times New Roman"/>
              </a:rPr>
              <a:t>Association of Strength, Virility, and Violence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  <a:p>
            <a:pPr lvl="1" marL="811080" indent="-271080">
              <a:lnSpc>
                <a:spcPct val="16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Conflict Theory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2" marL="1136880" indent="-217080">
              <a:lnSpc>
                <a:spcPct val="160000"/>
              </a:lnSpc>
              <a:spcBef>
                <a:spcPts val="601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6300"/>
                </a:solidFill>
                <a:latin typeface="Times New Roman"/>
              </a:rPr>
              <a:t>Men Losing Power, Reassert Through Violence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  <a:p>
            <a:pPr marL="430920" indent="-43092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lu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1066680" y="1035000"/>
            <a:ext cx="807732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ender and Violenc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3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3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46" dur="1" fill="hold"/>
                                  <p:tgtEl>
                                    <p:spTgt spid="14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6858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9280" indent="-44928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omen Majority in Popul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omen Underrepresented in Governmen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omen Underrepresented in Law and Business Care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1066680" y="1035000"/>
            <a:ext cx="807732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hanging Face of Politic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65" dur="1" fill="hold"/>
                                  <p:tgtEl>
                                    <p:spTgt spid="14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6858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Barriers Coming Dow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bandoning Stereotyp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ew Consciousne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1066680" y="533520"/>
            <a:ext cx="746784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limpsing the Future - With Hop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84" dur="1" fill="hold"/>
                                  <p:tgtEl>
                                    <p:spTgt spid="15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10" descr="Henslin final"/>
          <p:cNvPicPr/>
          <p:nvPr/>
        </p:nvPicPr>
        <p:blipFill>
          <a:blip r:embed="rId1"/>
          <a:stretch/>
        </p:blipFill>
        <p:spPr>
          <a:xfrm>
            <a:off x="2362320" y="304920"/>
            <a:ext cx="4647960" cy="6324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5943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x - Biological Characteristic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emale and Mal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imary and Secondary Sexual Characteristic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066680" y="1187280"/>
            <a:ext cx="8077320" cy="87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Issues of Sex and Gender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" dur="1" fill="hold"/>
                                  <p:tgtEl>
                                    <p:spTgt spid="9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2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der - Social Characteristic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sculinity and Feminin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ppropriate Behavio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066680" y="1339920"/>
            <a:ext cx="8077320" cy="71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Issues of Sex and Gender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7" dur="1" fill="hold"/>
                                  <p:tgtEl>
                                    <p:spTgt spid="9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2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ominant Position in Sociolo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4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Factors Primary, Not Biologica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4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f Biological Should Be Less Vari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066680" y="457200"/>
            <a:ext cx="8001000" cy="157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ender Differences In Behavior -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Biology or Culture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6" dur="1" fill="hold"/>
                                  <p:tgtEl>
                                    <p:spTgt spid="9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9280" indent="0">
              <a:lnSpc>
                <a:spcPct val="2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Opening the Door to Biolo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ature vs. Nurtu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 Medical Acciden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Vietnam Veteran Stud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066680" y="104760"/>
            <a:ext cx="6172200" cy="1952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ender Differences In Behavior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Biology or Culture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0" dur="1" fill="hold"/>
                                  <p:tgtEl>
                                    <p:spTgt spid="10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76964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444600" indent="-44460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How Females became a Minority Group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4600" indent="-44460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Origins of Patriarch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4600" indent="-44460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x Typing of Work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4600" indent="-44460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der and Prestige of Work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066680" y="533520"/>
            <a:ext cx="693432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ender and Inequality in Global Perspectiv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4" dur="1" fill="hold"/>
                                  <p:tgtEl>
                                    <p:spTgt spid="10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07" name="Picture 5" descr="11-01"/>
          <p:cNvPicPr/>
          <p:nvPr/>
        </p:nvPicPr>
        <p:blipFill>
          <a:blip r:embed="rId1"/>
          <a:stretch/>
        </p:blipFill>
        <p:spPr>
          <a:xfrm>
            <a:off x="609480" y="533520"/>
            <a:ext cx="7772400" cy="5605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44460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Other Areas of Global Discrimin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4600" indent="-44460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lobal Gap in Educ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4600" indent="-44460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lobal Gap in Politic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4600" indent="-44460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lobal Gap in Pay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4600" indent="-44460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Violence Against Wome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066680" y="609480"/>
            <a:ext cx="6934320" cy="141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ender and Inequality in Global Perspectiv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0" dur="1" fill="hold"/>
                                  <p:tgtEl>
                                    <p:spTgt spid="10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5T18:08:30Z</dcterms:created>
  <dc:creator>James Henslin</dc:creator>
  <dc:description/>
  <dc:language>en-US</dc:language>
  <cp:lastModifiedBy>Legion</cp:lastModifiedBy>
  <dcterms:modified xsi:type="dcterms:W3CDTF">2017-07-05T06:50:01Z</dcterms:modified>
  <cp:revision>174</cp:revision>
  <dc:subject>Chapter 11: Sex and Gender</dc:subject>
  <dc:title>Sociology: A Down-to-Earth Approach, 8/e</dc:title>
</cp:coreProperties>
</file>